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926-CB09-43A1-BE31-7C760042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243-A13B-48C2-83C9-2232A735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843-5A6E-4493-8050-C9A1F0AB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9C3-58D6-4DCF-8B0D-9C652F34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FFB4E-B835-417F-87EC-E0B21CC5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31A0A-9EE0-41D1-867C-5F37E6B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D6B70-4409-4529-9551-DE7C5664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1B87B-B9D9-434E-832B-98F24956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63CD6-0F7D-4B9A-B13F-C81591E2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61303-B4B2-4B00-9074-58113555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DE0A5-F89C-4334-AE7D-0BB97EB2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EBF-B08C-4036-8ACE-D73AB08F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EFE20-A2F1-453B-96B8-3B8C7B7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0523E-1313-42B2-9327-A62A2963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789F3-1D12-4FE1-B3E2-4A627B1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175EA-DDB9-41C1-B0A6-9F571297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EC940-093D-45DE-8D23-BA0A8D48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A06-3F9C-45A3-8B8C-35488A8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5F0-8297-4EB8-BA2E-3917594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6C3-28D0-497B-85A1-F76C662A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4BF-6B01-4680-9C5E-D264EF1A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6BA-9E52-405B-9BDF-71E90BD3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15E-16C3-4D82-9D3D-DB55DFBD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17E-2331-4969-AF99-983FDDC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6077-42DD-4C50-9E5E-0BD89A74A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268A-261B-4808-BD42-476619BFE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с параметрами и методы их реш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64000" y="4581360"/>
            <a:ext cx="5472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втор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ерова Светл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орисевич Ирина Афанас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Брыжина Э. Ф.  Математика. Сборник экзаменационных заданий для поступающих в Санкт-Петербургский государственный инженерно-экономический университет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8640"/>
            <a:ext cx="9144000" cy="58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каких значениях параметр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истема уравн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 +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имеет решение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&lt; 0,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&gt; 0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x + y =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 +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ользуемся методом подстанов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= a – 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x + (a – x) =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x + (a – x) =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x + a – x =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 3 - 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= a – 3 + 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= 2a –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– a &lt; 0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a – 3 &gt; 0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&gt;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&gt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а € ( 3; + ∞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341360"/>
            <a:ext cx="250920" cy="574920"/>
          </a:xfrm>
          <a:custGeom>
            <a:avLst/>
            <a:gdLst>
              <a:gd name="textAreaLeft" fmla="*/ 160200 w 250920"/>
              <a:gd name="textAreaRight" fmla="*/ 251280 w 25092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2276640"/>
            <a:ext cx="142920" cy="504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213000"/>
            <a:ext cx="142920" cy="503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08000" y="5877000"/>
            <a:ext cx="71280" cy="576360"/>
          </a:xfrm>
          <a:custGeom>
            <a:avLst/>
            <a:gdLst>
              <a:gd name="textAreaLeft" fmla="*/ 360 w 71280"/>
              <a:gd name="textAreaRight" fmla="*/ 2592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55640" y="616572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 flipH="1">
            <a:off x="108000" y="5229360"/>
            <a:ext cx="71280" cy="576000"/>
          </a:xfrm>
          <a:custGeom>
            <a:avLst/>
            <a:gdLst>
              <a:gd name="textAreaLeft" fmla="*/ 360 w 71280"/>
              <a:gd name="textAreaRight" fmla="*/ 25920 w 712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торой тип зада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 второму тип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относятся задачи, в которых нужно найти значение параметра, при котором система уравнений не имеет решений, имеет бесконечно много решений, либо имеет одно реш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решении задач второго типа возможны следующие случаи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Главный  случай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:          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≠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шение единственно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 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68360" y="2421000"/>
                <a:ext cx="315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58920" y="2421000"/>
                <a:ext cx="288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826920" y="3789360"/>
                <a:ext cx="1729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26920" y="4508640"/>
                <a:ext cx="1824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005360"/>
            <a:ext cx="179280" cy="934920"/>
          </a:xfrm>
          <a:custGeom>
            <a:avLst/>
            <a:gdLst>
              <a:gd name="textAreaLeft" fmla="*/ 114480 w 179280"/>
              <a:gd name="textAreaRight" fmla="*/ 179640 w 1792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732720" y="2060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3500280"/>
            <a:ext cx="319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51640" y="2708280"/>
            <a:ext cx="223200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2565360"/>
            <a:ext cx="19414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42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Исключение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1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080" y="620640"/>
            <a:ext cx="8989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     =       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l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й бесконечно много:                                                          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 – любое чис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Исключение 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      ≠      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l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й нет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692280"/>
                <a:ext cx="288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00000" y="692280"/>
                <a:ext cx="2890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620640"/>
                <a:ext cx="341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826920" y="2349360"/>
                <a:ext cx="65088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х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08000" y="19890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1628640"/>
            <a:ext cx="28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948000" y="836640"/>
            <a:ext cx="24120" cy="167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35640" y="782640"/>
            <a:ext cx="27860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0920" y="4221000"/>
                <a:ext cx="2887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00000" y="4221000"/>
                <a:ext cx="2890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19280" y="4221000"/>
                <a:ext cx="2887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6877080" y="4076640"/>
            <a:ext cx="0" cy="199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5084640"/>
            <a:ext cx="3646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292720" y="3789360"/>
            <a:ext cx="278460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796000" y="4149720"/>
            <a:ext cx="278604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меры решения зада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 А.К.Дьячков «Математика 1 часть: Справочные материалы, контрольно-тренировочные упражнения, задания с развернутым ответом», стр. 130 №14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дите наибольшее целое значение параметра  с, при котором система уравнений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3 =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y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не имеет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y + 4 = (c + 1)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3 =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+ 4 = (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+ 1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y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=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+ 1)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3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=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авнение системы определяет прямую на плоскости. Система уравнений не имеет решений, если прямые параллельны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 е.  если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, то      =      ≠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данной системы имеет равенство            =    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=                            =      ,при с ≠ -1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≠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(с + 1) = 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+ с = 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+ с – 6 = 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 теореме Виета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+ с</a:t>
            </a:r>
            <a:r>
              <a:rPr b="0" lang="ru-RU" sz="10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 -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×  с</a:t>
            </a:r>
            <a:r>
              <a:rPr b="0" lang="ru-RU" sz="1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= -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= -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= 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твет: Наибольшее целое значение параметра, при котором  система уравнений не имеет решений   с = 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989000"/>
            <a:ext cx="179280" cy="432000"/>
          </a:xfrm>
          <a:custGeom>
            <a:avLst/>
            <a:gdLst>
              <a:gd name="textAreaLeft" fmla="*/ 114480 w 179280"/>
              <a:gd name="textAreaRight" fmla="*/ 179640 w 179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492280"/>
            <a:ext cx="108000" cy="50508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924280"/>
            <a:ext cx="108000" cy="431640"/>
          </a:xfrm>
          <a:custGeom>
            <a:avLst/>
            <a:gdLst>
              <a:gd name="textAreaLeft" fmla="*/ 69120 w 108000"/>
              <a:gd name="textAreaRight" fmla="*/ 108360 w 10800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771640" y="3429000"/>
                <a:ext cx="21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132000" y="3429000"/>
                <a:ext cx="21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564000" y="3429000"/>
                <a:ext cx="218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900000" y="3500280"/>
            <a:ext cx="142920" cy="43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987640" y="3860640"/>
                <a:ext cx="333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92360" y="386064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80000" y="386064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9280" y="4221000"/>
                <a:ext cx="333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84360" y="4221000"/>
                <a:ext cx="142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0920" y="458136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11280" y="458136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08000" y="422100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547640" y="4221000"/>
                <a:ext cx="333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24000" y="422100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79640" y="458136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403280" y="4221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лава 2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Квадратные уравнения и неравенства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он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пределение 1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вадратным  уравнением  называют  уравнения  вида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0, где коэффициенты а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любые действительные числа, причем а ≠ 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пределение 2.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дратное уравнение называют приведенным, если его старший коэффициент равен 1; квадратное уравнение называют неприведенным, если старший коэффициент отличен от 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пределение 3.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ое квадратное уравнение – это квадратное уравнение, в котором присутствуют все три слагаемых; иными словами, это уравнение, у которого коэффициенты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 отличны от нуля. Неполное квадратное уравнение – это уравнение, в котором присутствуют не все три слагаемых; иными словами, это уравнение, у которого хотя бы один из коэффициенто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вен нул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пределение 4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орнем квадратного уравнения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0 называют всякое значение переменной х, при котором квадратный трехчлен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бращается в ну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пособы для нахождения корней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375920"/>
            <a:ext cx="91440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ервый способ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 помощью дискриминанта. Дискриминантом квадратного уравнения называют выражение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7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– 4а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&lt; 0, то квадратное уравнение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= 0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 имеет корн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0, то квадратное уравнение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= 0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ин корень. Который находиться по формуле х =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&gt; 0, то квадратное уравнение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= 0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а корня, которые находятся по формулам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=          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; х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Второй способ.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ема Ви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усть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, 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рни квадратного уравнения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= 0.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гда сумма корне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вна       , а произведение корней равно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Третий способ.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рафическ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вадратичная функция – это функция, которая задана формулой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a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≠ 0,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 некоторые числа, х 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менная. Графиком функции является парабола, с вершиной в точке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=      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Четвертый способ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стный метод решения квадратных  уравне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 в уравнении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0,  а +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0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1;   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уравнении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0,  а -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0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-1; 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076720" y="2492280"/>
                <a:ext cx="2937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003640" y="3284640"/>
                <a:ext cx="851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588000" y="3284640"/>
                <a:ext cx="851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55640" y="4149720"/>
                <a:ext cx="19836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067280" y="4076640"/>
                <a:ext cx="139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651640" y="5157720"/>
                <a:ext cx="255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219640" y="6308640"/>
            <a:ext cx="457200" cy="142920"/>
          </a:xfrm>
          <a:prstGeom prst="rightArrow">
            <a:avLst>
              <a:gd name="adj1" fmla="val 50000"/>
              <a:gd name="adj2" fmla="val 79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6597720"/>
            <a:ext cx="457200" cy="142920"/>
          </a:xfrm>
          <a:prstGeom prst="rightArrow">
            <a:avLst>
              <a:gd name="adj1" fmla="val 50000"/>
              <a:gd name="adj2" fmla="val 79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308720" y="6165720"/>
                <a:ext cx="112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236000" y="6453360"/>
                <a:ext cx="21564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меры решения зада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890640"/>
            <a:ext cx="9144000" cy="59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Л.В.Кузнецов «Сборник заданий для итоговой аттестации в 9 классе»  № 4.32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Примечание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ущественным этапом решения задач с параметрами является запись ответа. Особенно это относится к тем примерам, где решение как бы  «ветвится» в зависимости от параметра. В подобных случаях составление ответа – сбор ранее полученных результатов. И здесь очень важно не забыть отразить в ответе все возможные случа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тройте график функции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= 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4|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|. Сколько общих точек может иметь с этим графиком прямая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?    (Для каждого случая укажите соответствующие значения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построения графика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(|х|), достаточно построить график функци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(х) для всех х ≥ 0 из области определения и отразить полученную часть симметрично оси ордина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ункция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|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|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4|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|, при всех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х,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то есть зеркальное отражение параболы вида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4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х,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ри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≥ 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-        = 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22 – 8 = -4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) Если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&lt; -4, то не имеет точек пересеч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) Если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-4, то имеет две точки пересеч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) Если -4 ≤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&lt; 0, то имеет четыре точки пересеч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) Если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0, то имеет три точки пересеч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) Если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&gt; 0, то имеет две точки пересеч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11280" y="3429000"/>
                <a:ext cx="253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 flipV="1">
            <a:off x="6588000" y="3716280"/>
            <a:ext cx="0" cy="2144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932360" y="4098600"/>
            <a:ext cx="3218040" cy="1404720"/>
            <a:chOff x="4932360" y="4098600"/>
            <a:chExt cx="3218040" cy="1404720"/>
          </a:xfrm>
        </p:grpSpPr>
        <p:sp>
          <p:nvSpPr>
            <p:cNvPr id="240" name=""/>
            <p:cNvSpPr/>
            <p:nvPr/>
          </p:nvSpPr>
          <p:spPr>
            <a:xfrm>
              <a:off x="5827320" y="4098600"/>
              <a:ext cx="1539360" cy="1310040"/>
            </a:xfrm>
            <a:custGeom>
              <a:avLst/>
              <a:gdLst/>
              <a:ahLst/>
              <a:rect l="l" t="t" r="r" b="b"/>
              <a:pathLst>
                <a:path w="1800" h="1410">
                  <a:moveTo>
                    <a:pt x="0" y="0"/>
                  </a:moveTo>
                  <a:cubicBezTo>
                    <a:pt x="195" y="555"/>
                    <a:pt x="390" y="1110"/>
                    <a:pt x="540" y="1260"/>
                  </a:cubicBezTo>
                  <a:cubicBezTo>
                    <a:pt x="690" y="1410"/>
                    <a:pt x="780" y="900"/>
                    <a:pt x="900" y="900"/>
                  </a:cubicBezTo>
                  <a:cubicBezTo>
                    <a:pt x="1020" y="900"/>
                    <a:pt x="1110" y="1410"/>
                    <a:pt x="1260" y="1260"/>
                  </a:cubicBezTo>
                  <a:cubicBezTo>
                    <a:pt x="1410" y="1110"/>
                    <a:pt x="1605" y="555"/>
                    <a:pt x="180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71680" y="5315400"/>
              <a:ext cx="27986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071680" y="5128200"/>
              <a:ext cx="27986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1680" y="5502960"/>
              <a:ext cx="279864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32360" y="4921920"/>
              <a:ext cx="321804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071680" y="4566240"/>
              <a:ext cx="279864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 flipV="1">
            <a:off x="7956720" y="4869000"/>
            <a:ext cx="152280" cy="8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56720" y="4869000"/>
            <a:ext cx="152280" cy="8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 С. А. Шестакова «Сборник задач, для подготовки и проведения письменного экзамена по алгебре», стр.128 №7.2.С09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08080"/>
            <a:ext cx="91440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тройте график функции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 каких значениях а прямая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а не имеет с построенным графиком ни одной общей точ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Решение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простим выражение задающее функцию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            , при х ≠ 0, х ≠ -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рафиком функции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        является гипербола, расположенная  в 1 и 3 координатных углах.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      -0,5      -1     -2     -4       -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         8        4      2      1       0,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       0,5       1      2      4        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        -8      -4      -2    -1      -0,5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                            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: при а = 0, а = 2, прямая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а не имеет с построенным графиком ни одной общей точ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771640" y="1052640"/>
                <a:ext cx="10540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68360" y="1916280"/>
                <a:ext cx="11523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95280" y="2349360"/>
                <a:ext cx="59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-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68360" y="2781360"/>
                <a:ext cx="3841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1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124000" y="3141720"/>
                <a:ext cx="292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914640"/>
            <a:ext cx="322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508640"/>
            <a:ext cx="322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63760" y="3699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9640" y="3699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00120" y="3699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20600" y="3699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7760" y="3699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59160" y="42940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42940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00120" y="42940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20600" y="42940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4600" y="42940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588000" y="3573000"/>
            <a:ext cx="0" cy="2081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4653000"/>
            <a:ext cx="29289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732720" y="4797360"/>
            <a:ext cx="1726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713480" y="2944080"/>
            <a:ext cx="1733040" cy="15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414972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br>
              <a:rPr sz="16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(Гарбарук В.В. Пособие для учащихся факультета довузовской подготовки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ступления в Петербургский институт путей сообщения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321920"/>
            <a:ext cx="9144000" cy="55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каких значениях параметра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равнение (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2)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- 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5 = 0   имеет д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личных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ественных корня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2)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- 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5 =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)Если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2, то уравнение имеет вид  -4х – 3 = 0 и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едовательно, имеет только один корен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)Если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≠ 2 квадратное уравнение  имеет два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личных вещественных  корня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его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&gt; 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гда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16 – 4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2)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5) &gt;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6 – 4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2)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5) &gt;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6 – 4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7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10) &gt;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6 – 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28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40 &gt;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7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6 &lt;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смотрим функцию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7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6. Графиком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вляется парабола, ветви котор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правлены  ввер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ули функци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7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+ 6 =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 + b + c = 0              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1: 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= 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////////////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2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6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€ ( 1; 2)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 2; 6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5516640"/>
            <a:ext cx="574560" cy="162000"/>
          </a:xfrm>
          <a:prstGeom prst="rightArrow">
            <a:avLst>
              <a:gd name="adj1" fmla="val 50000"/>
              <a:gd name="adj2" fmla="val 88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76720" y="5950080"/>
            <a:ext cx="227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80000" y="5734080"/>
            <a:ext cx="1524240" cy="514440"/>
          </a:xfrm>
          <a:custGeom>
            <a:avLst/>
            <a:gdLst/>
            <a:ahLst/>
            <a:rect l="l" t="t" r="r" b="b"/>
            <a:pathLst>
              <a:path w="2340" h="1260">
                <a:moveTo>
                  <a:pt x="0" y="0"/>
                </a:moveTo>
                <a:cubicBezTo>
                  <a:pt x="435" y="630"/>
                  <a:pt x="870" y="1260"/>
                  <a:pt x="1260" y="1260"/>
                </a:cubicBezTo>
                <a:cubicBezTo>
                  <a:pt x="1650" y="1260"/>
                  <a:pt x="2160" y="210"/>
                  <a:pt x="234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2000" y="5950080"/>
            <a:ext cx="7272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6000" y="595008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04000" y="595008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туальность и проблема 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7854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дачи с параметрами относятся к наиболее трудным заданиям, предлагаемым на выпускных и вступительных экзаменах по математи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школьных  учебниках математики задачам с параметрами уделяется недостаточно внимания, поэтому возникла необходимость в изучении типов задач с параметрами и различных способах их реш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ннее обращение к задачам с параметрами поможет преодолеть трудности , которые возможны при решении задач с параметрами на выпускных и вступительных экзаме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160640"/>
            <a:ext cx="91440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учив основные понятия и типы задач с параметрами убедилась, что для успешного решения задач необходимы знания курса алгебры 7-9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анализировав задания с параметром, удалось отобрать задачи  по  темам «Системы  линейных  уравнений  и  неравенств», «Квадратные  уравнения  и  неравенст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ссмотрев решения задач, выяснила, что основными способами решения задач с параметрами является аналитический, графический, либо комбинированный: аналитический и графическ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анная работа была составлена, в виде пособия как для самостоятельной подготовки к экзамену, так и для использования  на урок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ходе работы была доказана гипотеза, выдвинутая в начале исслед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Цель работ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2079720"/>
            <a:ext cx="8783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следовать типы и способы решения задач с параметрами по темам: «Решение  систем линейных уравнений и неравенств» и «Квадратные уравнения и неравенства»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Гипотез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431800"/>
            <a:ext cx="792972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чи с параметрами,  предлагаемые на выпускных и вступительных экзаменах по математике, могут быть решены учащимися 9 классов, используя  теоретические сведения и аналитически алгоритмы решения курса алгебры  7-9 класс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Задачи исследования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учить основные понятия по темам :           « Системы  линейных  уравнений и неравенств» и «Решение  квадратных  уравнений  и   неравенств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анализировать и отобрать задания с параметром по указанным тем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смотреть способы решения задач с параметр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авить  банк  задач  для самостоятельного  реш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Практическая значим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940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ную работу можно использовать в качестве учебного пособия как для самостоятель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готовки учащихся к экзамену по математик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 и решения  задач на уроках и факультативных занят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лава 1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«Системы  двух линейных уравнен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анализировав все просмотренные мной задания, удалось выделить  два типа задач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 первому тип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задач относятся задачи, в которых нужно найти значения параметра, удовлетворяющее условию. Основными методами их решения являются: метод подстановки и сложени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меры решения зада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98640"/>
            <a:ext cx="9144000" cy="58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Л.В.Кузнецов «Сборник заданий для итоговой аттестации в 9 классе»  №3.3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данная система неравен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 –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&lt; 2             имеет ровно три целых решен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+ 6 &lt;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+ 1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 –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&lt; 2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&gt;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+ 6 &lt;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+ 1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&lt;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 &lt;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&lt;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5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4; 5;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 &lt;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5 ≤ 7                   11 &lt;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≤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11 &lt;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≤ 12                система неравенств имеет 3 целых  знач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__________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____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____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____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____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      4      5       6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     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При 11 &lt;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≤ 12  система неравенств 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вно три целых реш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1989000"/>
            <a:ext cx="142920" cy="648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99736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2997360"/>
            <a:ext cx="215640" cy="57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3789360"/>
            <a:ext cx="671760" cy="108000"/>
          </a:xfrm>
          <a:prstGeom prst="rightArrow">
            <a:avLst>
              <a:gd name="adj1" fmla="val 50000"/>
              <a:gd name="adj2" fmla="val 155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581360"/>
            <a:ext cx="669960" cy="108000"/>
          </a:xfrm>
          <a:prstGeom prst="rightArrow">
            <a:avLst>
              <a:gd name="adj1" fmla="val 50000"/>
              <a:gd name="adj2" fmla="val 155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3213000"/>
            <a:ext cx="671760" cy="108000"/>
          </a:xfrm>
          <a:prstGeom prst="rightArrow">
            <a:avLst>
              <a:gd name="adj1" fmla="val 50000"/>
              <a:gd name="adj2" fmla="val 155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5445000"/>
            <a:ext cx="671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«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Математика. Практикум по подготовке к ЕГЭ. – М: Издательский центр «Вентана-Граф» , 2008»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йдите наименьшее целое значение параметра 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, при котором решение системы уравнений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– 2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= 2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  удовлетворяет неравенству х &gt; -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x + 3y = 4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Решен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2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2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+ 3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= 4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спользуемся методом подстановк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 = 2m + 2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x + 3(2m + 2x) = 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x + 6m + 6x = 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1x + 6m = 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 =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 = 2m + 2×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= 2m +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дставим в неравенство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&gt; -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&gt; -2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| ×1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– 6m &gt; -22m – 8 + 12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m &gt; -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 &gt; -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///////////////////////////////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3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m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наим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= -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341360"/>
            <a:ext cx="152280" cy="514440"/>
          </a:xfrm>
          <a:custGeom>
            <a:avLst/>
            <a:gdLst>
              <a:gd name="textAreaLeft" fmla="*/ 97200 w 152280"/>
              <a:gd name="textAreaRight" fmla="*/ 152640 w 15228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05000"/>
            <a:ext cx="152280" cy="514440"/>
          </a:xfrm>
          <a:custGeom>
            <a:avLst/>
            <a:gdLst>
              <a:gd name="textAreaLeft" fmla="*/ 97200 w 152280"/>
              <a:gd name="textAreaRight" fmla="*/ 152640 w 15228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8360" y="3716280"/>
                <a:ext cx="9619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87280" y="4005360"/>
                <a:ext cx="935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843280" y="4005360"/>
                <a:ext cx="961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0" y="4724280"/>
                <a:ext cx="9223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95280" y="595008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924280"/>
            <a:ext cx="108000" cy="431640"/>
          </a:xfrm>
          <a:custGeom>
            <a:avLst/>
            <a:gdLst>
              <a:gd name="textAreaLeft" fmla="*/ 69120 w 108000"/>
              <a:gd name="textAreaRight" fmla="*/ 108360 w 10800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9:23:52Z</dcterms:created>
  <dc:creator>Света</dc:creator>
  <dc:description/>
  <dc:language>en-US</dc:language>
  <cp:lastModifiedBy>Света</cp:lastModifiedBy>
  <dcterms:modified xsi:type="dcterms:W3CDTF">2009-04-24T06:19:46Z</dcterms:modified>
  <cp:revision>18</cp:revision>
  <dc:subject/>
  <dc:title>Задачи с параметрами и методы их решения</dc:title>
</cp:coreProperties>
</file>